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image14.jpeg" ContentType="image/jpeg"/>
  <Override PartName="/ppt/media/image8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4.jpeg" ContentType="image/jpeg"/>
  <Override PartName="/ppt/media/image2.png" ContentType="image/png"/>
  <Override PartName="/ppt/media/image27.jpeg" ContentType="image/jpeg"/>
  <Override PartName="/ppt/media/glass.wav" ContentType="audio/x-wav"/>
  <Override PartName="/ppt/media/image5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370-8F46-4FD5-B388-3C69DB0F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B6F-0B64-40EB-A7FA-AAF4FE7A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AEF-B044-4562-B745-91CD5A89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C3A-B7D9-4AED-9A38-6F8A7076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9B57-6DC6-4D4B-85A6-E66A45B8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332C-6487-447F-B2C7-07BE7846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1495-3E10-4E8B-BC33-87DEB3FF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6755-B90C-4FED-9435-E2B95C7B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63DB-B61F-49D9-AB51-79EDEA0F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9BBC-3BE6-4273-A34D-F43E7F34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4E3C-5FAC-4CDA-B79D-276EC3C0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B70-134E-4E94-81B4-439921E2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8333-498A-4E6D-B29C-156F27E3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22BE-2AD8-4F88-8C20-E5727BF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1AD4-B103-448F-98B4-C98F6854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3F98-BA04-4641-9FA0-B357E190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6615-A75B-4E1E-9BE6-1A6349D3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826C-3569-4FEC-A50E-390E5CBF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8BB55-B387-47E8-94A2-2FF2BF79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1CD5-F2CA-424A-94AD-7DAF82FA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D5E9-3FE6-4951-9616-060C8922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FE7B-340B-48EE-A9C6-9F8AFD92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0DF-8B8F-4F9D-84F0-3F51C7F6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5283-2ACE-453C-B78E-7D6315E5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4A64-4460-438C-9C0F-D3B8BED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A6F6-D6BB-4A4B-8099-337D4E7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6C05-48D2-48DA-A7B1-469C334E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F269-5B7E-4CAF-B239-052993E7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CD72-ABC1-42B7-BBFC-13E919E5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3704-C3D6-4F2E-B2C6-49BF0D9D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D11-ECD2-402A-AAD1-B0350EF4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8A5-6CE4-40A8-9B72-3655E9AE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0F2-079C-4ACD-B1FB-124C6ADB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F14-FEBD-4CC6-97B1-EE714F4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7BF-F028-484F-83DA-D960806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AD3-AB75-4E8B-BF1C-50686D75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1EC4-9D48-4950-AAB1-11920DF156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8D7-1A8F-4B1D-A1F0-E37B0EB8FB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E7F-2E8B-4C41-B9AB-88E3292CDE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zhaoni.cn/f/read_106_139430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ongfz.com/bookstore/6539/book_9133903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northbook.com.cn/news-center/readnews.jsp?newsid=918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152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156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130"/>
          <p:cNvSpPr/>
          <p:nvPr/>
        </p:nvSpPr>
        <p:spPr>
          <a:xfrm>
            <a:off x="368280" y="2689200"/>
            <a:ext cx="781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隶书"/>
                <a:ea typeface="隶书"/>
              </a:rPr>
              <a:t>10  </a:t>
            </a:r>
            <a:r>
              <a:rPr b="0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老  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18433"/>
          <p:cNvSpPr/>
          <p:nvPr/>
        </p:nvSpPr>
        <p:spPr>
          <a:xfrm>
            <a:off x="2227320" y="762120"/>
            <a:ext cx="30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8434"/>
          <p:cNvSpPr/>
          <p:nvPr/>
        </p:nvSpPr>
        <p:spPr>
          <a:xfrm>
            <a:off x="2608200" y="762120"/>
            <a:ext cx="30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8436"/>
          <p:cNvSpPr/>
          <p:nvPr/>
        </p:nvSpPr>
        <p:spPr>
          <a:xfrm>
            <a:off x="298440" y="907920"/>
            <a:ext cx="24019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姓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职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家庭成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外貌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家庭住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云形标注 18437"/>
          <p:cNvSpPr/>
          <p:nvPr/>
        </p:nvSpPr>
        <p:spPr>
          <a:xfrm>
            <a:off x="1652760" y="387360"/>
            <a:ext cx="3024000" cy="593640"/>
          </a:xfrm>
          <a:prstGeom prst="cloudCallout">
            <a:avLst>
              <a:gd name="adj1" fmla="val -55152"/>
              <a:gd name="adj2" fmla="val 15442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老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云形标注 18438"/>
          <p:cNvSpPr/>
          <p:nvPr/>
        </p:nvSpPr>
        <p:spPr>
          <a:xfrm>
            <a:off x="4470480" y="1052640"/>
            <a:ext cx="3565440" cy="825480"/>
          </a:xfrm>
          <a:prstGeom prst="cloudCallout">
            <a:avLst>
              <a:gd name="adj1" fmla="val -136875"/>
              <a:gd name="adj2" fmla="val 92236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蹬三轮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8439"/>
          <p:cNvSpPr/>
          <p:nvPr/>
        </p:nvSpPr>
        <p:spPr>
          <a:xfrm>
            <a:off x="2457360" y="2687760"/>
            <a:ext cx="6267600" cy="550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有个哥哥，死了，两个侄儿，“没出息”，便就没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8440"/>
          <p:cNvSpPr/>
          <p:nvPr/>
        </p:nvSpPr>
        <p:spPr>
          <a:xfrm>
            <a:off x="2455920" y="4043520"/>
            <a:ext cx="6269040" cy="550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只有一只眼睛，另一只是“田螺眼”，瞎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云形标注 18441"/>
          <p:cNvSpPr/>
          <p:nvPr/>
        </p:nvSpPr>
        <p:spPr>
          <a:xfrm>
            <a:off x="2139840" y="5170320"/>
            <a:ext cx="6613560" cy="1216080"/>
          </a:xfrm>
          <a:prstGeom prst="cloudCallout">
            <a:avLst>
              <a:gd name="adj1" fmla="val -29092"/>
              <a:gd name="adj2" fmla="val -4548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荒僻小胡同里的破落大院里的塌败小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19457"/>
          <p:cNvSpPr/>
          <p:nvPr/>
        </p:nvSpPr>
        <p:spPr>
          <a:xfrm>
            <a:off x="203040" y="669960"/>
            <a:ext cx="8588520" cy="70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老王的生活很苦，表现在哪些方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9459"/>
          <p:cNvSpPr/>
          <p:nvPr/>
        </p:nvSpPr>
        <p:spPr>
          <a:xfrm>
            <a:off x="6439320" y="1765440"/>
            <a:ext cx="667800" cy="4140000"/>
          </a:xfrm>
          <a:prstGeom prst="rect">
            <a:avLst/>
          </a:prstGeom>
          <a:solidFill>
            <a:srgbClr val="c0c0c0">
              <a:alpha val="44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穷苦卑微、凄凉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9460"/>
          <p:cNvSpPr/>
          <p:nvPr/>
        </p:nvSpPr>
        <p:spPr>
          <a:xfrm>
            <a:off x="7216920" y="2779560"/>
            <a:ext cx="1477800" cy="1557000"/>
          </a:xfrm>
          <a:prstGeom prst="rect">
            <a:avLst/>
          </a:prstGeom>
          <a:solidFill>
            <a:srgbClr val="ffff99">
              <a:alpha val="3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2407680" y="1836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靠一辆破旧的三轮车活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"/>
          <p:cNvSpPr/>
          <p:nvPr/>
        </p:nvSpPr>
        <p:spPr>
          <a:xfrm>
            <a:off x="612720" y="2498760"/>
            <a:ext cx="58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文革”期间载客的三轮车被取缔，他的生计就更加窘迫，只能凑合着打发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"/>
          <p:cNvSpPr/>
          <p:nvPr/>
        </p:nvSpPr>
        <p:spPr>
          <a:xfrm>
            <a:off x="2586240" y="40435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了一辈子光棍，孤苦伶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"/>
          <p:cNvSpPr/>
          <p:nvPr/>
        </p:nvSpPr>
        <p:spPr>
          <a:xfrm>
            <a:off x="2228040" y="46926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眼睛不好，瞎了一只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5"/>
          <p:cNvSpPr/>
          <p:nvPr/>
        </p:nvSpPr>
        <p:spPr>
          <a:xfrm>
            <a:off x="3207960" y="5418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住在荒僻的小胡同，塌败的小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20481"/>
          <p:cNvSpPr/>
          <p:nvPr/>
        </p:nvSpPr>
        <p:spPr>
          <a:xfrm>
            <a:off x="324000" y="704880"/>
            <a:ext cx="3382920" cy="70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老王的善良表现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0483"/>
          <p:cNvSpPr/>
          <p:nvPr/>
        </p:nvSpPr>
        <p:spPr>
          <a:xfrm>
            <a:off x="6008760" y="2635200"/>
            <a:ext cx="1255680" cy="367344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老实厚道、心地善良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知恩必报的好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9460"/>
          <p:cNvSpPr/>
          <p:nvPr/>
        </p:nvSpPr>
        <p:spPr>
          <a:xfrm>
            <a:off x="7308720" y="3497400"/>
            <a:ext cx="1478160" cy="1557000"/>
          </a:xfrm>
          <a:prstGeom prst="rect">
            <a:avLst/>
          </a:prstGeom>
          <a:solidFill>
            <a:srgbClr val="ffff99">
              <a:alpha val="3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96720" y="2543040"/>
            <a:ext cx="57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愿意给我们家带送冰块，车费减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"/>
          <p:cNvSpPr/>
          <p:nvPr/>
        </p:nvSpPr>
        <p:spPr>
          <a:xfrm>
            <a:off x="396720" y="3360600"/>
            <a:ext cx="57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送钱先生看病，不要钱，拿了钱还不大放心，担心人家看病钱不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"/>
          <p:cNvSpPr/>
          <p:nvPr/>
        </p:nvSpPr>
        <p:spPr>
          <a:xfrm>
            <a:off x="396720" y="4476600"/>
            <a:ext cx="57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受了人家的好处，总也不忘，总觉得欠了人情，去世前一天还硬撑着拿了香油、鸡蛋上门感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780000" y="692280"/>
            <a:ext cx="5076720" cy="153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21507"/>
          <p:cNvSpPr txBox="1"/>
          <p:nvPr/>
        </p:nvSpPr>
        <p:spPr>
          <a:xfrm>
            <a:off x="488880" y="752400"/>
            <a:ext cx="221148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走近作者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6" name="矩形 1"/>
          <p:cNvSpPr/>
          <p:nvPr/>
        </p:nvSpPr>
        <p:spPr>
          <a:xfrm>
            <a:off x="318960" y="1441440"/>
            <a:ext cx="4875480" cy="642600"/>
          </a:xfrm>
          <a:prstGeom prst="rect">
            <a:avLst/>
          </a:prstGeom>
          <a:solidFill>
            <a:srgbClr val="ff6600">
              <a:alpha val="22000"/>
            </a:srgbClr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"/>
                <a:ea typeface="楷体"/>
              </a:rPr>
              <a:t>作者对老王态度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云形标注 2"/>
          <p:cNvSpPr/>
          <p:nvPr/>
        </p:nvSpPr>
        <p:spPr>
          <a:xfrm>
            <a:off x="808200" y="2390760"/>
            <a:ext cx="3782880" cy="1327320"/>
          </a:xfrm>
          <a:prstGeom prst="cloudCallout">
            <a:avLst>
              <a:gd name="adj1" fmla="val -58893"/>
              <a:gd name="adj2" fmla="val 79421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情、关心、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云形标注 3"/>
          <p:cNvSpPr/>
          <p:nvPr/>
        </p:nvSpPr>
        <p:spPr>
          <a:xfrm>
            <a:off x="708120" y="3987720"/>
            <a:ext cx="4660920" cy="2371680"/>
          </a:xfrm>
          <a:prstGeom prst="cloudCallout">
            <a:avLst>
              <a:gd name="adj1" fmla="val -56597"/>
              <a:gd name="adj2" fmla="val -41518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善良，富有爱心、同情心，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和尊重不幸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5" descr="003OzD1ugy6SAvS6qoAac&amp;690"/>
          <p:cNvPicPr/>
          <p:nvPr/>
        </p:nvPicPr>
        <p:blipFill>
          <a:blip r:embed="rId1"/>
          <a:stretch/>
        </p:blipFill>
        <p:spPr>
          <a:xfrm>
            <a:off x="5445000" y="1101600"/>
            <a:ext cx="3302280" cy="514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22531"/>
          <p:cNvSpPr/>
          <p:nvPr/>
        </p:nvSpPr>
        <p:spPr>
          <a:xfrm>
            <a:off x="387360" y="5144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你认为作者及其一家是怎样的人？具体写到了哪些事情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534"/>
          <p:cNvSpPr/>
          <p:nvPr/>
        </p:nvSpPr>
        <p:spPr>
          <a:xfrm>
            <a:off x="316080" y="2030400"/>
            <a:ext cx="483372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坐他的车，照顾他的生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”女儿知道他有夜盲症，送他大瓶鱼肝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王再客气也付他应得的报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”关切地询问只有一位主顾的老王是否能维持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送来香油鸡蛋，不能让他白送，也给了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1" descr="909b822146772718.jpg!620x0"/>
          <p:cNvPicPr/>
          <p:nvPr/>
        </p:nvPicPr>
        <p:blipFill>
          <a:blip r:embed="rId1"/>
          <a:stretch/>
        </p:blipFill>
        <p:spPr>
          <a:xfrm>
            <a:off x="5207040" y="2038320"/>
            <a:ext cx="3548160" cy="424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23553"/>
          <p:cNvSpPr/>
          <p:nvPr/>
        </p:nvSpPr>
        <p:spPr>
          <a:xfrm>
            <a:off x="341280" y="994320"/>
            <a:ext cx="83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作者为什么能够那么关心老王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社会地位、生活条件比较优越的人往往瞧不起卑微者，要有什么样的精神才能象作者那样尊重人，理解人，关心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3554"/>
          <p:cNvSpPr/>
          <p:nvPr/>
        </p:nvSpPr>
        <p:spPr>
          <a:xfrm>
            <a:off x="1984320" y="2913120"/>
            <a:ext cx="169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  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555"/>
          <p:cNvSpPr/>
          <p:nvPr/>
        </p:nvSpPr>
        <p:spPr>
          <a:xfrm>
            <a:off x="1401840" y="5245200"/>
            <a:ext cx="3098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互  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精神人道主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爆炸形 1 23558"/>
          <p:cNvSpPr/>
          <p:nvPr/>
        </p:nvSpPr>
        <p:spPr>
          <a:xfrm>
            <a:off x="3232080" y="3827520"/>
            <a:ext cx="1752840" cy="129528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23559"/>
          <p:cNvSpPr/>
          <p:nvPr/>
        </p:nvSpPr>
        <p:spPr>
          <a:xfrm>
            <a:off x="341280" y="3971880"/>
            <a:ext cx="2378160" cy="9144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极富爱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1" descr="001pzcpmzy6KP3JSgBgc6&amp;690"/>
          <p:cNvPicPr/>
          <p:nvPr/>
        </p:nvPicPr>
        <p:blipFill>
          <a:blip r:embed="rId1"/>
          <a:stretch/>
        </p:blipFill>
        <p:spPr>
          <a:xfrm>
            <a:off x="5565600" y="2397240"/>
            <a:ext cx="2970360" cy="388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文本框 24577"/>
          <p:cNvSpPr/>
          <p:nvPr/>
        </p:nvSpPr>
        <p:spPr>
          <a:xfrm>
            <a:off x="426960" y="1384200"/>
            <a:ext cx="1293840" cy="64260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那是一个幸运的人对一个不幸者的愧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578"/>
          <p:cNvSpPr/>
          <p:nvPr/>
        </p:nvSpPr>
        <p:spPr>
          <a:xfrm>
            <a:off x="971640" y="4941720"/>
            <a:ext cx="61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4579"/>
          <p:cNvSpPr/>
          <p:nvPr/>
        </p:nvSpPr>
        <p:spPr>
          <a:xfrm>
            <a:off x="1757160" y="530280"/>
            <a:ext cx="3868920" cy="764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揭示全文主旨的“文眼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" descr="002AsPrwzy6KUdJ290l59&amp;690"/>
          <p:cNvPicPr/>
          <p:nvPr/>
        </p:nvPicPr>
        <p:blipFill>
          <a:blip r:embed="rId1"/>
          <a:stretch/>
        </p:blipFill>
        <p:spPr>
          <a:xfrm>
            <a:off x="1843200" y="1403280"/>
            <a:ext cx="6684840" cy="5010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25601"/>
          <p:cNvSpPr/>
          <p:nvPr/>
        </p:nvSpPr>
        <p:spPr>
          <a:xfrm>
            <a:off x="406440" y="527040"/>
            <a:ext cx="6711840" cy="703440"/>
          </a:xfrm>
          <a:prstGeom prst="rect">
            <a:avLst/>
          </a:prstGeom>
          <a:noFill/>
          <a:ln w="507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既然“我”也关爱老王，为何文中还说“愧怍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25602"/>
          <p:cNvSpPr/>
          <p:nvPr/>
        </p:nvSpPr>
        <p:spPr>
          <a:xfrm>
            <a:off x="333360" y="2266920"/>
            <a:ext cx="450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个社会总有幸运者与不幸者，幸运者有责任关爱不幸者，关注他们的命运，让他们也过上好日子，帮助改善他们的处境。作者回想起来，与老王相比，觉得自己对老王的关爱还很不够，所以感到“愧怍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5603"/>
          <p:cNvSpPr txBox="1"/>
          <p:nvPr/>
        </p:nvSpPr>
        <p:spPr>
          <a:xfrm>
            <a:off x="8028000" y="1773360"/>
            <a:ext cx="86508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49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？</a:t>
            </a:r>
            <a:endParaRPr b="0" lang="en-US" sz="1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1" descr="20141022011535986"/>
          <p:cNvPicPr/>
          <p:nvPr/>
        </p:nvPicPr>
        <p:blipFill>
          <a:blip r:embed="rId3"/>
          <a:stretch/>
        </p:blipFill>
        <p:spPr>
          <a:xfrm>
            <a:off x="5207040" y="2295360"/>
            <a:ext cx="3252600" cy="4044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26625"/>
          <p:cNvSpPr/>
          <p:nvPr/>
        </p:nvSpPr>
        <p:spPr>
          <a:xfrm>
            <a:off x="3736800" y="1387440"/>
            <a:ext cx="49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为自己对老王的关爱不够和自己无力真正改善老王的境遇感到愧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6626"/>
          <p:cNvSpPr txBox="1"/>
          <p:nvPr/>
        </p:nvSpPr>
        <p:spPr>
          <a:xfrm>
            <a:off x="485640" y="671400"/>
            <a:ext cx="258948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思想感情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"/>
          <p:cNvSpPr/>
          <p:nvPr/>
        </p:nvSpPr>
        <p:spPr>
          <a:xfrm>
            <a:off x="519120" y="138744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老王的不幸的同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2" descr="wKgBpVUNMyqAKhD2AAuN3R5-bhg24.groupinfo.w680"/>
          <p:cNvPicPr/>
          <p:nvPr/>
        </p:nvPicPr>
        <p:blipFill>
          <a:blip r:embed="rId1"/>
          <a:stretch/>
        </p:blipFill>
        <p:spPr>
          <a:xfrm>
            <a:off x="619200" y="2982960"/>
            <a:ext cx="6030720" cy="3379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40961"/>
          <p:cNvSpPr/>
          <p:nvPr/>
        </p:nvSpPr>
        <p:spPr>
          <a:xfrm>
            <a:off x="1359000" y="1268280"/>
            <a:ext cx="61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0962"/>
          <p:cNvSpPr/>
          <p:nvPr/>
        </p:nvSpPr>
        <p:spPr>
          <a:xfrm>
            <a:off x="2705760" y="868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职业：三轮单干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0963"/>
          <p:cNvSpPr/>
          <p:nvPr/>
        </p:nvSpPr>
        <p:spPr>
          <a:xfrm>
            <a:off x="2634480" y="1539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生理缺陷：一只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0964"/>
          <p:cNvSpPr/>
          <p:nvPr/>
        </p:nvSpPr>
        <p:spPr>
          <a:xfrm>
            <a:off x="2106720" y="2254320"/>
            <a:ext cx="38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居住条件：塌败的小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40965"/>
          <p:cNvSpPr/>
          <p:nvPr/>
        </p:nvSpPr>
        <p:spPr>
          <a:xfrm>
            <a:off x="1330200" y="3614760"/>
            <a:ext cx="6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工作与为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40966"/>
          <p:cNvSpPr/>
          <p:nvPr/>
        </p:nvSpPr>
        <p:spPr>
          <a:xfrm>
            <a:off x="2139840" y="337176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带送冰，车费减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40967"/>
          <p:cNvSpPr/>
          <p:nvPr/>
        </p:nvSpPr>
        <p:spPr>
          <a:xfrm>
            <a:off x="2895480" y="390384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0968"/>
          <p:cNvSpPr/>
          <p:nvPr/>
        </p:nvSpPr>
        <p:spPr>
          <a:xfrm>
            <a:off x="2135160" y="3900600"/>
            <a:ext cx="34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帮送医院，不要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40969"/>
          <p:cNvSpPr/>
          <p:nvPr/>
        </p:nvSpPr>
        <p:spPr>
          <a:xfrm>
            <a:off x="2135160" y="4486320"/>
            <a:ext cx="42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改成平板三轮，维持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0970"/>
          <p:cNvSpPr/>
          <p:nvPr/>
        </p:nvSpPr>
        <p:spPr>
          <a:xfrm>
            <a:off x="2131920" y="5076720"/>
            <a:ext cx="38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离世前，送蛋、香油表感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40971"/>
          <p:cNvSpPr/>
          <p:nvPr/>
        </p:nvSpPr>
        <p:spPr>
          <a:xfrm>
            <a:off x="6651720" y="1011240"/>
            <a:ext cx="610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左大括号 40972"/>
          <p:cNvSpPr/>
          <p:nvPr/>
        </p:nvSpPr>
        <p:spPr>
          <a:xfrm>
            <a:off x="1906560" y="137304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左大括号 40973"/>
          <p:cNvSpPr/>
          <p:nvPr/>
        </p:nvSpPr>
        <p:spPr>
          <a:xfrm>
            <a:off x="1906560" y="39276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40974"/>
          <p:cNvSpPr/>
          <p:nvPr/>
        </p:nvSpPr>
        <p:spPr>
          <a:xfrm>
            <a:off x="6894360" y="21528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ahoma"/>
              </a:rPr>
              <a:t>老实厚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0975"/>
          <p:cNvSpPr/>
          <p:nvPr/>
        </p:nvSpPr>
        <p:spPr>
          <a:xfrm>
            <a:off x="6873840" y="312408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ahoma"/>
              </a:rPr>
              <a:t>心地善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40976"/>
          <p:cNvSpPr/>
          <p:nvPr/>
        </p:nvSpPr>
        <p:spPr>
          <a:xfrm>
            <a:off x="6892920" y="410220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ahoma"/>
              </a:rPr>
              <a:t>知恩图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左大括号 40977"/>
          <p:cNvSpPr/>
          <p:nvPr/>
        </p:nvSpPr>
        <p:spPr>
          <a:xfrm>
            <a:off x="1130400" y="268776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40978"/>
          <p:cNvSpPr/>
          <p:nvPr/>
        </p:nvSpPr>
        <p:spPr>
          <a:xfrm>
            <a:off x="-558000" y="2828880"/>
            <a:ext cx="1826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老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右大括号 40980"/>
          <p:cNvSpPr/>
          <p:nvPr/>
        </p:nvSpPr>
        <p:spPr>
          <a:xfrm>
            <a:off x="6051600" y="1617840"/>
            <a:ext cx="914400" cy="3581280"/>
          </a:xfrm>
          <a:custGeom>
            <a:avLst/>
            <a:gdLst>
              <a:gd name="textAreaLeft" fmla="*/ 0 w 914400"/>
              <a:gd name="textAreaRight" fmla="*/ 330120 w 914400"/>
              <a:gd name="textAreaTop" fmla="*/ 92880 h 3581280"/>
              <a:gd name="textAreaBottom" fmla="*/ 348840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3"/>
          <p:cNvGrpSpPr/>
          <p:nvPr/>
        </p:nvGrpSpPr>
        <p:grpSpPr>
          <a:xfrm>
            <a:off x="755640" y="836640"/>
            <a:ext cx="1714320" cy="499680"/>
            <a:chOff x="755640" y="836640"/>
            <a:chExt cx="1714320" cy="499680"/>
          </a:xfrm>
        </p:grpSpPr>
        <p:sp>
          <p:nvSpPr>
            <p:cNvPr id="165" name="流程图: 文档 4"/>
            <p:cNvSpPr/>
            <p:nvPr/>
          </p:nvSpPr>
          <p:spPr>
            <a:xfrm>
              <a:off x="755640" y="882000"/>
              <a:ext cx="1672200" cy="45432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4101"/>
            <p:cNvSpPr/>
            <p:nvPr/>
          </p:nvSpPr>
          <p:spPr>
            <a:xfrm>
              <a:off x="756000" y="836640"/>
              <a:ext cx="17139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任意多边形 10"/>
          <p:cNvSpPr/>
          <p:nvPr/>
        </p:nvSpPr>
        <p:spPr>
          <a:xfrm>
            <a:off x="0" y="4829040"/>
            <a:ext cx="9144000" cy="168768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6"/>
          <p:cNvSpPr/>
          <p:nvPr/>
        </p:nvSpPr>
        <p:spPr>
          <a:xfrm>
            <a:off x="0" y="508464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"/>
          <p:cNvSpPr/>
          <p:nvPr/>
        </p:nvSpPr>
        <p:spPr>
          <a:xfrm>
            <a:off x="401760" y="3559320"/>
            <a:ext cx="83502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感态度与价值观：从课文中的人物身上，学会善待他人，关注生活中的弱势群体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"/>
          <p:cNvSpPr/>
          <p:nvPr/>
        </p:nvSpPr>
        <p:spPr>
          <a:xfrm>
            <a:off x="401760" y="1407960"/>
            <a:ext cx="81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知识与技能：整体感知课文内容，了解文章如何刻画人物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"/>
          <p:cNvSpPr/>
          <p:nvPr/>
        </p:nvSpPr>
        <p:spPr>
          <a:xfrm>
            <a:off x="401760" y="2546280"/>
            <a:ext cx="82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程与方法：学习自主、合作、探究的学习方式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86000" y="635040"/>
            <a:ext cx="38192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400" spc="-1" strike="noStrike">
                <a:solidFill>
                  <a:srgbClr val="ff0000"/>
                </a:solidFill>
                <a:latin typeface="宋体"/>
                <a:ea typeface="宋体"/>
              </a:rPr>
              <a:t>献给老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74480" y="1252080"/>
            <a:ext cx="406548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哦，老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茕茕孑立的身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还有一辆破旧的三轮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演绎着你的不幸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书写着你的孤独的忧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哦，老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倒下的是病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挺起的是脊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子纵然伛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眼神纵然迷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39960" y="1601280"/>
            <a:ext cx="419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优质而廉价的冰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却影射出你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待人的热心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哦，老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岁月侵蚀你的肌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魔纠缠着你的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是全身直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也要把香油和鸡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带着身体的最后一点余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感恩送进他人的心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7652"/>
          <p:cNvSpPr txBox="1"/>
          <p:nvPr/>
        </p:nvSpPr>
        <p:spPr>
          <a:xfrm>
            <a:off x="268200" y="442800"/>
            <a:ext cx="1524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cc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拓展延伸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cc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29697" descr="11"/>
          <p:cNvPicPr/>
          <p:nvPr/>
        </p:nvPicPr>
        <p:blipFill>
          <a:blip r:embed="rId1">
            <a:grayscl/>
          </a:blip>
          <a:stretch/>
        </p:blipFill>
        <p:spPr>
          <a:xfrm>
            <a:off x="824040" y="1871640"/>
            <a:ext cx="5506920" cy="437976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29698"/>
          <p:cNvSpPr/>
          <p:nvPr/>
        </p:nvSpPr>
        <p:spPr>
          <a:xfrm>
            <a:off x="7069680" y="1943280"/>
            <a:ext cx="66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流浪之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8674"/>
          <p:cNvSpPr/>
          <p:nvPr/>
        </p:nvSpPr>
        <p:spPr>
          <a:xfrm>
            <a:off x="1028880" y="6634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让世界充满爱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3072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65040" y="825480"/>
            <a:ext cx="3952800" cy="321300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1"/>
          <p:cNvSpPr/>
          <p:nvPr/>
        </p:nvSpPr>
        <p:spPr>
          <a:xfrm>
            <a:off x="1235160" y="486108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自食其力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1745" descr="2"/>
          <p:cNvPicPr/>
          <p:nvPr/>
        </p:nvPicPr>
        <p:blipFill>
          <a:blip r:embed="rId2"/>
          <a:stretch/>
        </p:blipFill>
        <p:spPr>
          <a:xfrm>
            <a:off x="4456080" y="790560"/>
            <a:ext cx="4275000" cy="328140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2"/>
          <p:cNvSpPr/>
          <p:nvPr/>
        </p:nvSpPr>
        <p:spPr>
          <a:xfrm>
            <a:off x="5741280" y="4861080"/>
            <a:ext cx="13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互助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blinds dir="ver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文本框 32770"/>
          <p:cNvSpPr/>
          <p:nvPr/>
        </p:nvSpPr>
        <p:spPr>
          <a:xfrm>
            <a:off x="426960" y="4902120"/>
            <a:ext cx="320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姐妹抓阄读书，有书读的妹妹却哭了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图片 1" descr="图片2"/>
          <p:cNvPicPr/>
          <p:nvPr/>
        </p:nvPicPr>
        <p:blipFill>
          <a:blip r:embed="rId1"/>
          <a:stretch/>
        </p:blipFill>
        <p:spPr>
          <a:xfrm>
            <a:off x="4130640" y="654120"/>
            <a:ext cx="4456080" cy="42098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" descr="图片3"/>
          <p:cNvPicPr/>
          <p:nvPr/>
        </p:nvPicPr>
        <p:blipFill>
          <a:blip r:embed="rId2"/>
          <a:stretch/>
        </p:blipFill>
        <p:spPr>
          <a:xfrm>
            <a:off x="498600" y="550800"/>
            <a:ext cx="3143160" cy="428472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3"/>
          <p:cNvSpPr/>
          <p:nvPr/>
        </p:nvSpPr>
        <p:spPr>
          <a:xfrm>
            <a:off x="5160960" y="5045040"/>
            <a:ext cx="278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我们的课桌，我们的床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randomBar dir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38913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8914"/>
          <p:cNvSpPr/>
          <p:nvPr/>
        </p:nvSpPr>
        <p:spPr>
          <a:xfrm>
            <a:off x="216000" y="3394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38916" descr="teresa1"/>
          <p:cNvPicPr/>
          <p:nvPr/>
        </p:nvPicPr>
        <p:blipFill>
          <a:blip r:embed="rId1"/>
          <a:stretch/>
        </p:blipFill>
        <p:spPr>
          <a:xfrm>
            <a:off x="701640" y="847800"/>
            <a:ext cx="2614680" cy="3471840"/>
          </a:xfrm>
          <a:prstGeom prst="rect">
            <a:avLst/>
          </a:prstGeom>
          <a:ln w="0">
            <a:noFill/>
          </a:ln>
        </p:spPr>
      </p:pic>
      <p:sp>
        <p:nvSpPr>
          <p:cNvPr id="319" name="矩形 38917"/>
          <p:cNvSpPr/>
          <p:nvPr/>
        </p:nvSpPr>
        <p:spPr>
          <a:xfrm>
            <a:off x="317520" y="4510080"/>
            <a:ext cx="40813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特蕾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Mother Ter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1910-199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南斯拉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印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2"/>
          <p:cNvSpPr/>
          <p:nvPr/>
        </p:nvSpPr>
        <p:spPr>
          <a:xfrm>
            <a:off x="4762440" y="1006560"/>
            <a:ext cx="38368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70c0"/>
                </a:solidFill>
                <a:latin typeface="楷体"/>
                <a:ea typeface="楷体"/>
              </a:rPr>
              <a:t>我们常常无法做伟大的事，但我们可以用伟大的爱去做些小事。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诺贝尔和平奖得主特蕾莎修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片 39937" descr="7202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760" y="1198440"/>
            <a:ext cx="8177040" cy="4675320"/>
          </a:xfrm>
          <a:prstGeom prst="rect">
            <a:avLst/>
          </a:prstGeom>
          <a:ln w="0">
            <a:noFill/>
          </a:ln>
        </p:spPr>
      </p:pic>
      <p:sp>
        <p:nvSpPr>
          <p:cNvPr id="323" name="文本框 39938"/>
          <p:cNvSpPr/>
          <p:nvPr/>
        </p:nvSpPr>
        <p:spPr>
          <a:xfrm>
            <a:off x="2428200" y="5144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送人玫瑰，手有余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39939"/>
          <p:cNvSpPr/>
          <p:nvPr/>
        </p:nvSpPr>
        <p:spPr>
          <a:xfrm>
            <a:off x="395280" y="1198440"/>
            <a:ext cx="85694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个幸运的人对不幸者当常怀关切之心。眼泪要为别人的悲伤而流；仁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要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善良的心灵而发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常常爱惜”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去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照周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感化周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直至每一个人的脸上都挂起一片不落的灿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7"/>
          <p:cNvSpPr/>
          <p:nvPr/>
        </p:nvSpPr>
        <p:spPr>
          <a:xfrm>
            <a:off x="393840" y="923760"/>
            <a:ext cx="84261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请以下面的句式，把你的心愿表达出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　　假如我是一团火，就为他人送去温暖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　　假如我是一朵花，就为他人送去芬芳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　　假如我是＿＿＿，就为他人＿＿＿＿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假如我是＿＿＿，就为他人＿＿＿＿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41988"/>
          <p:cNvSpPr/>
          <p:nvPr/>
        </p:nvSpPr>
        <p:spPr>
          <a:xfrm>
            <a:off x="3443040" y="3989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棵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41989"/>
          <p:cNvSpPr/>
          <p:nvPr/>
        </p:nvSpPr>
        <p:spPr>
          <a:xfrm>
            <a:off x="6808680" y="3989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带来阴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41990"/>
          <p:cNvSpPr/>
          <p:nvPr/>
        </p:nvSpPr>
        <p:spPr>
          <a:xfrm>
            <a:off x="2989440" y="4079880"/>
            <a:ext cx="30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41991"/>
          <p:cNvSpPr/>
          <p:nvPr/>
        </p:nvSpPr>
        <p:spPr>
          <a:xfrm>
            <a:off x="3443040" y="5032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盏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1992"/>
          <p:cNvSpPr/>
          <p:nvPr/>
        </p:nvSpPr>
        <p:spPr>
          <a:xfrm>
            <a:off x="6814800" y="5032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带来光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"/>
          <p:cNvSpPr/>
          <p:nvPr/>
        </p:nvSpPr>
        <p:spPr>
          <a:xfrm>
            <a:off x="297000" y="444600"/>
            <a:ext cx="84517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一个盲人乞丐向大文学家雨果乞讨，雨果便在乞丐面前的纸牌上写了这样一句话：“</a:t>
            </a:r>
            <a:r>
              <a:rPr b="1" lang="zh-CN" sz="3000" spc="-1" strike="noStrike">
                <a:solidFill>
                  <a:srgbClr val="0070c0"/>
                </a:solidFill>
                <a:latin typeface="宋体"/>
              </a:rPr>
              <a:t>春天就要来了，可我看不见她！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”于是，被感动的路人纷纷把钱放入乞丐的铁罐……很简单的一句话：“春天就要来了，可我看不见她”写出了乞丐的无助与茫然；很小的一个举动，却让我们看到身为大文学家的雨果没有忽视卑贱的乞丐，没有袖手旁观，而是施以援手。在这里，</a:t>
            </a:r>
            <a:r>
              <a:rPr b="1" lang="zh-CN" sz="3000" spc="-1" strike="noStrike">
                <a:solidFill>
                  <a:srgbClr val="0070c0"/>
                </a:solidFill>
                <a:latin typeface="宋体"/>
              </a:rPr>
              <a:t>雨果送给他的不仅仅是一句话，送给他的还是温暖，还是春天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5"/>
          <p:cNvSpPr/>
          <p:nvPr/>
        </p:nvSpPr>
        <p:spPr>
          <a:xfrm>
            <a:off x="463680" y="4689360"/>
            <a:ext cx="82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今天我们要学习杨绛写的《老王》，她有没有送给我们的主人公老王一个春天呢？让我们一起拭目以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6147"/>
          <p:cNvGrpSpPr/>
          <p:nvPr/>
        </p:nvGrpSpPr>
        <p:grpSpPr>
          <a:xfrm>
            <a:off x="325440" y="334800"/>
            <a:ext cx="2232000" cy="808560"/>
            <a:chOff x="325440" y="334800"/>
            <a:chExt cx="2232000" cy="808560"/>
          </a:xfrm>
        </p:grpSpPr>
        <p:sp>
          <p:nvSpPr>
            <p:cNvPr id="176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6"/>
            <p:cNvSpPr/>
            <p:nvPr/>
          </p:nvSpPr>
          <p:spPr>
            <a:xfrm>
              <a:off x="325440" y="62316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6151"/>
            <p:cNvSpPr/>
            <p:nvPr/>
          </p:nvSpPr>
          <p:spPr>
            <a:xfrm>
              <a:off x="1168560" y="609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6152"/>
            <p:cNvSpPr/>
            <p:nvPr/>
          </p:nvSpPr>
          <p:spPr>
            <a:xfrm>
              <a:off x="325440" y="62280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cccff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3"/>
          <p:cNvGrpSpPr/>
          <p:nvPr/>
        </p:nvGrpSpPr>
        <p:grpSpPr>
          <a:xfrm>
            <a:off x="684360" y="1268280"/>
            <a:ext cx="1713960" cy="499680"/>
            <a:chOff x="684360" y="1268280"/>
            <a:chExt cx="1713960" cy="499680"/>
          </a:xfrm>
        </p:grpSpPr>
        <p:sp>
          <p:nvSpPr>
            <p:cNvPr id="183" name="流程图: 文档 1"/>
            <p:cNvSpPr/>
            <p:nvPr/>
          </p:nvSpPr>
          <p:spPr>
            <a:xfrm>
              <a:off x="684360" y="1313640"/>
              <a:ext cx="1671840" cy="45432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4101"/>
            <p:cNvSpPr/>
            <p:nvPr/>
          </p:nvSpPr>
          <p:spPr>
            <a:xfrm>
              <a:off x="684720" y="1268280"/>
              <a:ext cx="1713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12290"/>
          <p:cNvSpPr/>
          <p:nvPr/>
        </p:nvSpPr>
        <p:spPr>
          <a:xfrm>
            <a:off x="3470400" y="984240"/>
            <a:ext cx="5316480" cy="2653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杨绛，生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钱钟书夫人，本名杨季康，著名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评论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翻译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学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祖籍江苏无锡，生于北京。著有散文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干校六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饮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，译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堂吉诃德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著名作品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们仨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澡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作者在文化大革命的背景下写的。当时作者父母也被下放到干校劳动锻炼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4" descr="001OgQGEgy6PHWiwZ7Ufe&amp;690"/>
          <p:cNvPicPr/>
          <p:nvPr/>
        </p:nvPicPr>
        <p:blipFill>
          <a:blip r:embed="rId1"/>
          <a:stretch/>
        </p:blipFill>
        <p:spPr>
          <a:xfrm>
            <a:off x="235080" y="1954080"/>
            <a:ext cx="300672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3315" descr="1179297054_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920" y="1446120"/>
            <a:ext cx="2733480" cy="38340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3316" descr="pop04042701_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05240" y="2709720"/>
            <a:ext cx="2335320" cy="27133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3317" descr="Img221963847"/>
          <p:cNvPicPr/>
          <p:nvPr/>
        </p:nvPicPr>
        <p:blipFill>
          <a:blip r:embed="rId5"/>
          <a:stretch/>
        </p:blipFill>
        <p:spPr>
          <a:xfrm>
            <a:off x="6083280" y="2709720"/>
            <a:ext cx="2201760" cy="3243240"/>
          </a:xfrm>
          <a:prstGeom prst="rect">
            <a:avLst/>
          </a:prstGeom>
          <a:ln w="0">
            <a:noFill/>
          </a:ln>
        </p:spPr>
      </p:pic>
      <p:sp>
        <p:nvSpPr>
          <p:cNvPr id="190" name="矩形 13318"/>
          <p:cNvSpPr txBox="1"/>
          <p:nvPr/>
        </p:nvSpPr>
        <p:spPr>
          <a:xfrm>
            <a:off x="4332240" y="836640"/>
            <a:ext cx="339408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杨绛作品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14337"/>
          <p:cNvSpPr/>
          <p:nvPr/>
        </p:nvSpPr>
        <p:spPr>
          <a:xfrm>
            <a:off x="279360" y="3089160"/>
            <a:ext cx="84232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作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。这是一篇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回忆性的散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作者记叙了自己从前同老王交往中的几个片段，当时正是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化大革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时期，是一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荒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乱的年代，作者夫妇被认为是“反动学术权威”。但是，任何歪风邪气对老王都没有丝毫影响，他照样尊重作者夫妇。由此与老王的交往深深的印刻在了作者的脑海之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矩形 14338" descr=""/>
          <p:cNvPicPr/>
          <p:nvPr/>
        </p:nvPicPr>
        <p:blipFill>
          <a:blip r:embed="rId1"/>
          <a:stretch/>
        </p:blipFill>
        <p:spPr>
          <a:xfrm>
            <a:off x="4680" y="866880"/>
            <a:ext cx="3343320" cy="19098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1" descr="MP00000381b"/>
          <p:cNvPicPr/>
          <p:nvPr/>
        </p:nvPicPr>
        <p:blipFill>
          <a:blip r:embed="rId2"/>
          <a:stretch/>
        </p:blipFill>
        <p:spPr>
          <a:xfrm>
            <a:off x="4314960" y="517680"/>
            <a:ext cx="4387680" cy="2587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5362"/>
          <p:cNvSpPr/>
          <p:nvPr/>
        </p:nvSpPr>
        <p:spPr>
          <a:xfrm>
            <a:off x="409680" y="2749680"/>
            <a:ext cx="848340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宋体"/>
              </a:rPr>
              <a:t>伛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荒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</a:rPr>
              <a:t>僻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     ）      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</a:rPr>
              <a:t>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    ）         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</a:rPr>
              <a:t>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败（     ）      取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</a:rPr>
              <a:t>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    ）       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</a:rPr>
              <a:t>骷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     ）      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</a:rPr>
              <a:t>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笨（   ）        愧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</a:rPr>
              <a:t>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     ）      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</a:rPr>
              <a:t>惶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恐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363"/>
          <p:cNvSpPr/>
          <p:nvPr/>
        </p:nvSpPr>
        <p:spPr>
          <a:xfrm>
            <a:off x="1473120" y="2820960"/>
            <a:ext cx="14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yǔ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364"/>
          <p:cNvSpPr/>
          <p:nvPr/>
        </p:nvSpPr>
        <p:spPr>
          <a:xfrm>
            <a:off x="2182680" y="3573360"/>
            <a:ext cx="11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pì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5365"/>
          <p:cNvSpPr/>
          <p:nvPr/>
        </p:nvSpPr>
        <p:spPr>
          <a:xfrm>
            <a:off x="6184440" y="3573360"/>
            <a:ext cx="15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zuàn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5366"/>
          <p:cNvSpPr/>
          <p:nvPr/>
        </p:nvSpPr>
        <p:spPr>
          <a:xfrm>
            <a:off x="2072160" y="429264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tā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5367"/>
          <p:cNvSpPr/>
          <p:nvPr/>
        </p:nvSpPr>
        <p:spPr>
          <a:xfrm>
            <a:off x="7164720" y="4302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d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5368"/>
          <p:cNvSpPr/>
          <p:nvPr/>
        </p:nvSpPr>
        <p:spPr>
          <a:xfrm>
            <a:off x="1745280" y="493236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ū lóu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369"/>
          <p:cNvSpPr/>
          <p:nvPr/>
        </p:nvSpPr>
        <p:spPr>
          <a:xfrm>
            <a:off x="6932880" y="4932360"/>
            <a:ext cx="9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zhì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5370"/>
          <p:cNvSpPr/>
          <p:nvPr/>
        </p:nvSpPr>
        <p:spPr>
          <a:xfrm>
            <a:off x="2111400" y="55944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z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5371"/>
          <p:cNvSpPr/>
          <p:nvPr/>
        </p:nvSpPr>
        <p:spPr>
          <a:xfrm>
            <a:off x="6675480" y="569268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huáng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5372"/>
          <p:cNvSpPr txBox="1"/>
          <p:nvPr/>
        </p:nvSpPr>
        <p:spPr>
          <a:xfrm>
            <a:off x="290520" y="158904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字词积累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7" name="矩形 15373"/>
          <p:cNvSpPr/>
          <p:nvPr/>
        </p:nvSpPr>
        <p:spPr>
          <a:xfrm>
            <a:off x="409680" y="442800"/>
            <a:ext cx="31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检查预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" descr="7821310970362515"/>
          <p:cNvPicPr/>
          <p:nvPr/>
        </p:nvPicPr>
        <p:blipFill>
          <a:blip r:embed="rId1"/>
          <a:stretch/>
        </p:blipFill>
        <p:spPr>
          <a:xfrm>
            <a:off x="4768920" y="531720"/>
            <a:ext cx="3690720" cy="2795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16385"/>
          <p:cNvSpPr/>
          <p:nvPr/>
        </p:nvSpPr>
        <p:spPr>
          <a:xfrm>
            <a:off x="182520" y="1628640"/>
            <a:ext cx="494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本文主要写了什么内容？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6386"/>
          <p:cNvSpPr/>
          <p:nvPr/>
        </p:nvSpPr>
        <p:spPr>
          <a:xfrm>
            <a:off x="423720" y="3260880"/>
            <a:ext cx="3949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写作者与一位三轮人力车夫的交往，表现底层劳动者在不幸的生活中的不变的淳朴善良的天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6387"/>
          <p:cNvSpPr txBox="1"/>
          <p:nvPr/>
        </p:nvSpPr>
        <p:spPr>
          <a:xfrm>
            <a:off x="755640" y="744480"/>
            <a:ext cx="29019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整体感知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1" descr="11251125092155_31m"/>
          <p:cNvPicPr/>
          <p:nvPr/>
        </p:nvPicPr>
        <p:blipFill>
          <a:blip r:embed="rId1"/>
          <a:stretch/>
        </p:blipFill>
        <p:spPr>
          <a:xfrm>
            <a:off x="5072040" y="1222200"/>
            <a:ext cx="3308400" cy="49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7410" descr="课本插图"/>
          <p:cNvPicPr/>
          <p:nvPr/>
        </p:nvPicPr>
        <p:blipFill>
          <a:blip r:embed="rId1"/>
          <a:stretch/>
        </p:blipFill>
        <p:spPr>
          <a:xfrm>
            <a:off x="4775040" y="1550880"/>
            <a:ext cx="4002120" cy="447372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7411"/>
          <p:cNvSpPr/>
          <p:nvPr/>
        </p:nvSpPr>
        <p:spPr>
          <a:xfrm>
            <a:off x="396720" y="2131920"/>
            <a:ext cx="4499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插图，速读课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-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段，作者给了我们介绍了老王的哪些情况？从这些信息你读到什么？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从职业、家人、外貌、居住条件等方面来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7412"/>
          <p:cNvSpPr txBox="1"/>
          <p:nvPr/>
        </p:nvSpPr>
        <p:spPr>
          <a:xfrm>
            <a:off x="541440" y="981000"/>
            <a:ext cx="387504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“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画”说老王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cp:keywords/>
  <dc:language>en-US</dc:language>
  <cp:lastModifiedBy>微软用户</cp:lastModifiedBy>
  <dcterms:modified xsi:type="dcterms:W3CDTF">2017-02-21T00:13:53Z</dcterms:modified>
  <cp:revision>1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